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grr.wav" ContentType="audio/x-wav"/>
  <Override PartName="/ppt/media/image3.jpeg" ContentType="image/jpeg"/>
  <Override PartName="/ppt/media/image4.jpeg" ContentType="image/jpeg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9EE0-8F8F-4906-B7EB-A9A07A80A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30B2-7FFE-4F3D-A92C-0AB630157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ABEA-5313-4083-9F66-4DFBFC7B0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D366-E6CC-4C7B-906F-C68680DDC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5EE0-93DD-470B-8B29-8BF3751D0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9FDD-C443-41A3-AB6C-E0BFA41F0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2BDC-7F41-4A96-A6E0-536BBF04D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1EB0-CD49-49C6-8FB3-ECFADB0E1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FACC-FF9A-45C6-8F0F-200E5E19B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40D8-B968-4BEE-9184-BB290396D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55EB-5815-4782-A6BE-2D4A87639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ECD3-DF10-4AB6-8399-9C320192D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CAEF3-5F5D-47C4-ABFB-C2644EA37B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egofliks.150m.com/test%2520flying%2520side%2520stick%2520man.gif&amp;imgrefurl=http://jumpspin.7.forumer.com/viewtopic.php%3Ft%3D17&amp;usg=__9ChXnLlZpoRiXSu0vmu9pMWU_Io=&amp;h=340&amp;w=454&amp;sz=5&amp;hl=en&amp;start=3&amp;tbnid=eh0-HPbUmVYqgM:&amp;tbnh=96&amp;tbnw=128&amp;prev=/images%3Fq%3Dstick%2Bman%26gbv%3D2%26hl%3Den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google.com/imgres?imgurl=http://www.egofliks.150m.com/test%2520flying%2520side%2520stick%2520man.gif&amp;imgrefurl=http://jumpspin.7.forumer.com/viewtopic.php%3Ft%3D17&amp;usg=__9ChXnLlZpoRiXSu0vmu9pMWU_Io=&amp;h=340&amp;w=454&amp;sz=5&amp;hl=en&amp;start=3&amp;tbnid=eh0-HPbUmVYqgM:&amp;tbnh=96&amp;tbnw=128&amp;prev=/images%3Fq%3Dstick%2Bman%26gbv%3D2%26hl%3Den" TargetMode="External"/><Relationship Id="rId4" Type="http://schemas.openxmlformats.org/officeDocument/2006/relationships/image" Target="../media/image1.jpeg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egofliks.150m.com/test%2520flying%2520side%2520stick%2520man.gif&amp;imgrefurl=http://jumpspin.7.forumer.com/viewtopic.php%3Ft%3D17&amp;usg=__9ChXnLlZpoRiXSu0vmu9pMWU_Io=&amp;h=340&amp;w=454&amp;sz=5&amp;hl=en&amp;start=3&amp;tbnid=eh0-HPbUmVYqgM:&amp;tbnh=96&amp;tbnw=128&amp;prev=/images%3Fq%3Dstick%2Bman%26gbv%3D2%26hl%3Den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wmf"/><Relationship Id="rId5" Type="http://schemas.openxmlformats.org/officeDocument/2006/relationships/audio" Target="../media/grr.wav"/><Relationship Id="rId6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.O. Practise trigonometric techniq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01680" y="1620720"/>
            <a:ext cx="8448480" cy="550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What tools are available to us to solve triangle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3080" y="4195800"/>
            <a:ext cx="2377800" cy="459720"/>
          </a:xfrm>
          <a:prstGeom prst="rect">
            <a:avLst/>
          </a:prstGeom>
          <a:solidFill>
            <a:srgbClr val="e8aa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 sides, 1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rot="19888200">
            <a:off x="2190240" y="2075040"/>
            <a:ext cx="2251080" cy="1118880"/>
          </a:xfrm>
          <a:prstGeom prst="rtTriangl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092560" y="2511360"/>
            <a:ext cx="3426120" cy="1015920"/>
          </a:xfrm>
          <a:custGeom>
            <a:avLst/>
            <a:gdLst/>
            <a:ahLst/>
            <a:rect l="l" t="t" r="r" b="b"/>
            <a:pathLst>
              <a:path w="1755" h="640">
                <a:moveTo>
                  <a:pt x="969" y="0"/>
                </a:moveTo>
                <a:lnTo>
                  <a:pt x="0" y="530"/>
                </a:lnTo>
                <a:lnTo>
                  <a:pt x="1755" y="640"/>
                </a:lnTo>
                <a:lnTo>
                  <a:pt x="969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35240" y="2759040"/>
            <a:ext cx="339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ight 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033880" y="2932200"/>
            <a:ext cx="33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on right 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381480" y="2192400"/>
            <a:ext cx="1046160" cy="39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2192400"/>
            <a:ext cx="1812960" cy="477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803840"/>
            <a:ext cx="3483000" cy="550800"/>
          </a:xfrm>
          <a:prstGeom prst="rect">
            <a:avLst/>
          </a:prstGeom>
          <a:solidFill>
            <a:srgbClr val="e8aa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S O H C A H T O 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456080" y="3875040"/>
            <a:ext cx="2046240" cy="825480"/>
          </a:xfrm>
          <a:prstGeom prst="rect">
            <a:avLst/>
          </a:prstGeom>
          <a:solidFill>
            <a:srgbClr val="fcd5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 sides and 1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-260280" y="2190600"/>
            <a:ext cx="2394000" cy="1611360"/>
          </a:xfrm>
          <a:prstGeom prst="cloudCallout">
            <a:avLst>
              <a:gd name="adj1" fmla="val -7226"/>
              <a:gd name="adj2" fmla="val 5354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 each case, only one thing can be miss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3902040"/>
            <a:ext cx="2046600" cy="825480"/>
          </a:xfrm>
          <a:prstGeom prst="rect">
            <a:avLst/>
          </a:prstGeom>
          <a:solidFill>
            <a:srgbClr val="a6b0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ea, side-angle-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049720" y="5324400"/>
            <a:ext cx="2381400" cy="1191240"/>
          </a:xfrm>
          <a:prstGeom prst="rect">
            <a:avLst/>
          </a:prstGeom>
          <a:solidFill>
            <a:srgbClr val="c6fd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 pairs of angles and opposite s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5878080" y="3483000"/>
            <a:ext cx="652680" cy="290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6544800" y="3468600"/>
            <a:ext cx="203400" cy="1741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053120" y="3483000"/>
            <a:ext cx="349560" cy="45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73120" y="5616720"/>
            <a:ext cx="1738440" cy="459720"/>
          </a:xfrm>
          <a:prstGeom prst="rect">
            <a:avLst/>
          </a:prstGeom>
          <a:solidFill>
            <a:srgbClr val="a1e7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 s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27040" y="6194520"/>
            <a:ext cx="1738440" cy="459720"/>
          </a:xfrm>
          <a:prstGeom prst="rect">
            <a:avLst/>
          </a:prstGeom>
          <a:solidFill>
            <a:srgbClr val="a1e7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YTH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16440" y="4788000"/>
            <a:ext cx="1436760" cy="459720"/>
          </a:xfrm>
          <a:prstGeom prst="rect">
            <a:avLst/>
          </a:prstGeom>
          <a:solidFill>
            <a:srgbClr val="fcd5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s r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532640" y="4916520"/>
            <a:ext cx="1611360" cy="459720"/>
          </a:xfrm>
          <a:prstGeom prst="rect">
            <a:avLst/>
          </a:prstGeom>
          <a:solidFill>
            <a:srgbClr val="a6b0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ine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532640" y="5987880"/>
            <a:ext cx="1611360" cy="459720"/>
          </a:xfrm>
          <a:prstGeom prst="rect">
            <a:avLst/>
          </a:prstGeom>
          <a:solidFill>
            <a:srgbClr val="c6fda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ine r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003040" y="3657600"/>
            <a:ext cx="522360" cy="44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395440" y="3411360"/>
            <a:ext cx="827280" cy="227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 flipH="1">
            <a:off x="684360" y="1628640"/>
            <a:ext cx="7416720" cy="4680000"/>
          </a:xfrm>
          <a:prstGeom prst="rtTriangle">
            <a:avLst/>
          </a:prstGeom>
          <a:solidFill>
            <a:srgbClr val="b0eede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>
            <a:hlinkClick r:id="rId1"/>
          </p:cNvPr>
          <p:cNvPicPr/>
          <p:nvPr/>
        </p:nvPicPr>
        <p:blipFill>
          <a:blip r:embed="rId2"/>
          <a:srcRect l="32300" t="18583" r="38175" b="26417"/>
          <a:stretch/>
        </p:blipFill>
        <p:spPr>
          <a:xfrm>
            <a:off x="468360" y="5589720"/>
            <a:ext cx="515880" cy="7207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>
            <a:hlinkClick r:id="rId3"/>
          </p:cNvPr>
          <p:cNvPicPr/>
          <p:nvPr/>
        </p:nvPicPr>
        <p:blipFill>
          <a:blip r:embed="rId4"/>
          <a:srcRect l="32300" t="18583" r="38175" b="26417"/>
          <a:stretch/>
        </p:blipFill>
        <p:spPr>
          <a:xfrm>
            <a:off x="2627280" y="5589720"/>
            <a:ext cx="515880" cy="72072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.O. Practise trigonometric techniq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5"/>
          <a:srcRect l="27718" t="0" r="29262" b="0"/>
          <a:stretch/>
        </p:blipFill>
        <p:spPr>
          <a:xfrm>
            <a:off x="7020000" y="1628640"/>
            <a:ext cx="2124000" cy="49802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 flipH="1">
            <a:off x="0" y="6308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755640" y="652464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195640" y="652464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332000" y="623736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0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684360" y="1628640"/>
            <a:ext cx="7416720" cy="468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2843280" y="1628640"/>
            <a:ext cx="5257800" cy="460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547640" y="5805360"/>
            <a:ext cx="360360" cy="432000"/>
          </a:xfrm>
          <a:custGeom>
            <a:avLst/>
            <a:gdLst/>
            <a:ahLst/>
            <a:rect l="l" t="t" r="r" b="b"/>
            <a:pathLst>
              <a:path w="227" h="272">
                <a:moveTo>
                  <a:pt x="0" y="0"/>
                </a:moveTo>
                <a:cubicBezTo>
                  <a:pt x="71" y="23"/>
                  <a:pt x="143" y="46"/>
                  <a:pt x="181" y="91"/>
                </a:cubicBezTo>
                <a:cubicBezTo>
                  <a:pt x="219" y="136"/>
                  <a:pt x="223" y="204"/>
                  <a:pt x="227" y="2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348000" y="5734080"/>
            <a:ext cx="432000" cy="574560"/>
          </a:xfrm>
          <a:custGeom>
            <a:avLst/>
            <a:gdLst/>
            <a:ahLst/>
            <a:rect l="l" t="t" r="r" b="b"/>
            <a:pathLst>
              <a:path w="272" h="362">
                <a:moveTo>
                  <a:pt x="0" y="0"/>
                </a:moveTo>
                <a:cubicBezTo>
                  <a:pt x="91" y="60"/>
                  <a:pt x="182" y="121"/>
                  <a:pt x="227" y="181"/>
                </a:cubicBezTo>
                <a:cubicBezTo>
                  <a:pt x="272" y="241"/>
                  <a:pt x="272" y="301"/>
                  <a:pt x="272" y="36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19280" y="558972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635280" y="558972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2771640" y="1628640"/>
            <a:ext cx="5329440" cy="4680000"/>
          </a:xfrm>
          <a:prstGeom prst="rtTriangle">
            <a:avLst/>
          </a:prstGeom>
          <a:solidFill>
            <a:srgbClr val="e8aaf4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.O. Practise trigonometric techniq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4848120" y="4122720"/>
            <a:ext cx="3765600" cy="2376360"/>
          </a:xfrm>
          <a:prstGeom prst="rtTriangle">
            <a:avLst/>
          </a:prstGeom>
          <a:solidFill>
            <a:srgbClr val="b0eede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/>
          </p:cNvPr>
          <p:cNvPicPr/>
          <p:nvPr/>
        </p:nvPicPr>
        <p:blipFill>
          <a:blip r:embed="rId2"/>
          <a:srcRect l="32300" t="18583" r="38175" b="26417"/>
          <a:stretch/>
        </p:blipFill>
        <p:spPr>
          <a:xfrm>
            <a:off x="4738680" y="6134040"/>
            <a:ext cx="262080" cy="3650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rcRect l="32300" t="18583" r="38175" b="26417"/>
          <a:stretch/>
        </p:blipFill>
        <p:spPr>
          <a:xfrm>
            <a:off x="5834160" y="6134040"/>
            <a:ext cx="261720" cy="3650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rcRect l="27718" t="0" r="29262" b="0"/>
          <a:stretch/>
        </p:blipFill>
        <p:spPr>
          <a:xfrm>
            <a:off x="8066160" y="4122720"/>
            <a:ext cx="1077840" cy="2529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 flipH="1">
            <a:off x="4500720" y="6499080"/>
            <a:ext cx="464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4884840" y="6608880"/>
            <a:ext cx="255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614920" y="6608880"/>
            <a:ext cx="328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176800" y="6462720"/>
            <a:ext cx="54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50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4848120" y="4122360"/>
            <a:ext cx="3765600" cy="23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5943600" y="4122720"/>
            <a:ext cx="2670120" cy="23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286240" y="6243480"/>
            <a:ext cx="182520" cy="219240"/>
          </a:xfrm>
          <a:custGeom>
            <a:avLst/>
            <a:gdLst/>
            <a:ahLst/>
            <a:rect l="l" t="t" r="r" b="b"/>
            <a:pathLst>
              <a:path w="227" h="272">
                <a:moveTo>
                  <a:pt x="0" y="0"/>
                </a:moveTo>
                <a:cubicBezTo>
                  <a:pt x="71" y="23"/>
                  <a:pt x="143" y="46"/>
                  <a:pt x="181" y="91"/>
                </a:cubicBezTo>
                <a:cubicBezTo>
                  <a:pt x="219" y="136"/>
                  <a:pt x="223" y="204"/>
                  <a:pt x="227" y="2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200640" y="6207120"/>
            <a:ext cx="219240" cy="291960"/>
          </a:xfrm>
          <a:custGeom>
            <a:avLst/>
            <a:gdLst/>
            <a:ahLst/>
            <a:rect l="l" t="t" r="r" b="b"/>
            <a:pathLst>
              <a:path w="272" h="362">
                <a:moveTo>
                  <a:pt x="0" y="0"/>
                </a:moveTo>
                <a:cubicBezTo>
                  <a:pt x="91" y="60"/>
                  <a:pt x="182" y="121"/>
                  <a:pt x="227" y="181"/>
                </a:cubicBezTo>
                <a:cubicBezTo>
                  <a:pt x="272" y="241"/>
                  <a:pt x="272" y="301"/>
                  <a:pt x="272" y="36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322960" y="6134040"/>
            <a:ext cx="47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346800" y="6134040"/>
            <a:ext cx="60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866560" y="4122720"/>
            <a:ext cx="2705400" cy="2376360"/>
          </a:xfrm>
          <a:prstGeom prst="rtTriangle">
            <a:avLst/>
          </a:prstGeom>
          <a:solidFill>
            <a:srgbClr val="e8aaf4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4848120" y="4122720"/>
            <a:ext cx="3765600" cy="2376360"/>
          </a:xfrm>
          <a:prstGeom prst="rtTriangle">
            <a:avLst/>
          </a:prstGeom>
          <a:solidFill>
            <a:srgbClr val="b0eede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5866560" y="4122720"/>
            <a:ext cx="2705400" cy="2376360"/>
          </a:xfrm>
          <a:prstGeom prst="rtTriangle">
            <a:avLst/>
          </a:prstGeom>
          <a:solidFill>
            <a:srgbClr val="e8aaf4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812880"/>
            <a:ext cx="3578400" cy="1922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WRITE DOWN WHAT YOU KNO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2.02312E-006 L -0.50469 -0.35745 E">
                                      <p:cBhvr>
                                        <p:cTn id="94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4.9711E-006 L -0.17448 -0.42128 E">
                                      <p:cBhvr>
                                        <p:cTn id="98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gr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.O. Practise trigonometric techniq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80m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re needed to make this lawn design. What angle do the lower fences mak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525760" y="3090960"/>
            <a:ext cx="4019400" cy="3193920"/>
          </a:xfrm>
          <a:custGeom>
            <a:avLst/>
            <a:gdLst/>
            <a:ahLst/>
            <a:rect l="l" t="t" r="r" b="b"/>
            <a:pathLst>
              <a:path w="2532" h="2012">
                <a:moveTo>
                  <a:pt x="0" y="1088"/>
                </a:moveTo>
                <a:cubicBezTo>
                  <a:pt x="30" y="1073"/>
                  <a:pt x="91" y="1043"/>
                  <a:pt x="91" y="1043"/>
                </a:cubicBezTo>
                <a:lnTo>
                  <a:pt x="2532" y="0"/>
                </a:lnTo>
                <a:lnTo>
                  <a:pt x="2240" y="2012"/>
                </a:lnTo>
                <a:lnTo>
                  <a:pt x="0" y="1088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397320" y="5543640"/>
            <a:ext cx="191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0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960720" y="3379680"/>
            <a:ext cx="191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2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369120" y="4552920"/>
            <a:ext cx="191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20191200">
            <a:off x="2236680" y="4182840"/>
            <a:ext cx="2772000" cy="11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rot="1345200">
            <a:off x="2161800" y="5270040"/>
            <a:ext cx="2771640" cy="117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5240160" y="4935600"/>
            <a:ext cx="1211400" cy="8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3:15:54Z</dcterms:created>
  <dc:creator>N Holden</dc:creator>
  <dc:description/>
  <dc:language>en-US</dc:language>
  <cp:lastModifiedBy>N Holden</cp:lastModifiedBy>
  <dcterms:modified xsi:type="dcterms:W3CDTF">2009-02-06T15:10:23Z</dcterms:modified>
  <cp:revision>5</cp:revision>
  <dc:subject/>
  <dc:title>L.O. Practise trigonometric techniques</dc:title>
</cp:coreProperties>
</file>